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89C6-11B3-4D56-9FF2-29CEA0167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4CE8-B52A-4C00-A4AF-B5D27C4E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9CA2-6B6B-4B52-B9DA-A9E151399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952B-B17E-46DA-BD41-2C911FE9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C47F-EB9F-4804-B37B-7D858F3A7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AB14-78AA-4361-9B87-DBC89799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33C5-77FE-47B8-85ED-11578117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4848-5992-41DB-9BB3-BA10CD47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6326-C85F-41F9-A01D-28D7DC0B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0871-1508-42BF-8283-932F7BF7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977A-E7D0-481E-95E5-87FF89AD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0EC0-425D-406C-8D73-03FCE225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B6C5-447C-4A1D-9B70-B3184516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E8F7-F914-46AC-8B08-DAF2A826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E86A-52E0-48E3-A6CC-5BF04DB3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F803-7A17-4923-BC0E-E3FCA96E9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E9B0-D9EF-44A4-B485-D516131E6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4A28-3D74-4274-A157-63CFA4B5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8293-5E62-4C77-84B2-45667BDE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BD75-310A-421C-BDB2-FB664FCF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2FC4-5F58-4077-AB80-4551EF88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0384-DACE-4FC0-964C-F8DB832F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AC6C-4F84-43E7-8D66-CC06FA8C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2B8D-A1B1-49D7-941B-FCC018AC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9040"/>
              <a:chOff x="-1080" y="2601000"/>
              <a:chExt cx="2687400" cy="311904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3560" y="4049640"/>
                <a:ext cx="1832760" cy="1670400"/>
                <a:chOff x="853560" y="4049640"/>
                <a:chExt cx="1832760" cy="16704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9080" y="3931200"/>
                  <a:ext cx="477360" cy="12520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74200" y="4978800"/>
                  <a:ext cx="110520" cy="5137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040" y="5564880"/>
                  <a:ext cx="200880" cy="903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D5C9-FC88-4AB1-ACF7-A74F679E1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19800" y="0"/>
            <a:ext cx="9049680" cy="6858000"/>
            <a:chOff x="-19800" y="0"/>
            <a:chExt cx="904968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385600" y="61920"/>
              <a:ext cx="3644280" cy="6145920"/>
              <a:chOff x="5385600" y="61920"/>
              <a:chExt cx="3644280" cy="61459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76840" y="347760"/>
                <a:ext cx="2120040" cy="23580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10960" y="1970640"/>
                <a:ext cx="9079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18400" y="2589840"/>
                <a:ext cx="44028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46800" y="676800"/>
                <a:ext cx="38988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33400" y="265500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24040" y="1242720"/>
                <a:ext cx="19080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15880" y="2945160"/>
                <a:ext cx="52452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800"/>
              <a:ext cx="51336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7120" y="2000160"/>
              <a:ext cx="200268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404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7400" y="4532040"/>
              <a:ext cx="56304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70080" y="4728960"/>
              <a:ext cx="13824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92880" y="5195880"/>
              <a:ext cx="17622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8720" y="1032840"/>
              <a:ext cx="1017000" cy="1263240"/>
              <a:chOff x="4158720" y="103284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74520" y="1070640"/>
                <a:ext cx="285840" cy="379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9120" y="1603800"/>
                <a:ext cx="488880" cy="315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9120" y="1962360"/>
                <a:ext cx="511200" cy="160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57760"/>
              <a:ext cx="894600" cy="825480"/>
              <a:chOff x="5645520" y="257760"/>
              <a:chExt cx="894600" cy="8254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480" y="751680"/>
                <a:ext cx="179280" cy="362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720" y="432000"/>
                <a:ext cx="306360" cy="301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1040" y="357120"/>
                <a:ext cx="318240" cy="153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70920" y="5242320"/>
              <a:ext cx="1060200" cy="830520"/>
              <a:chOff x="970920" y="5242320"/>
              <a:chExt cx="1060200" cy="8305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3960" y="5506920"/>
                <a:ext cx="25164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840" y="5717880"/>
                <a:ext cx="43056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1920" y="5367240"/>
                <a:ext cx="45000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6920" y="408960"/>
              <a:ext cx="1693080" cy="1146960"/>
              <a:chOff x="376920" y="408960"/>
              <a:chExt cx="1693080" cy="114696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8960" y="1027080"/>
                <a:ext cx="355680" cy="531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5640" y="552240"/>
                <a:ext cx="608760" cy="441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9720" y="1066680"/>
                <a:ext cx="636120" cy="224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435080" y="3711960"/>
              <a:ext cx="1158120" cy="1608480"/>
              <a:chOff x="7435080" y="3711960"/>
              <a:chExt cx="1158120" cy="160848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89800" y="4756680"/>
                <a:ext cx="356040" cy="530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41600" y="4455720"/>
                <a:ext cx="60948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633800" y="3781080"/>
                <a:ext cx="63720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5720" y="3240"/>
              <a:ext cx="137088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32240" y="160920"/>
              <a:ext cx="1083240" cy="94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75560" y="1361160"/>
              <a:ext cx="524520" cy="4406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7360" y="1281960"/>
              <a:ext cx="19584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9880" y="0"/>
              <a:ext cx="19728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56360" y="1964880"/>
              <a:ext cx="62496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EA2F-B49C-4697-A14E-F71FF5DC94E8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2743200"/>
            <a:ext cx="7734240" cy="130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ADAPTIVE RELIABLE MULTIPATH PROVISIONING IN SURVIVABLE WDM MESH NETWORKS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PROPOSED WORK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A proposal to “adaptive reliable multipath provisioning in survivable WDM mesh networks”. Has to satisf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efficient utilization of bandwidth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reduction in cost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Increases connection availability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Simulat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performance of network load vs. bandwidth blocking ratio will be verified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TOOL USED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Mat lab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REFERENCE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. Song and B. Mukherjee, “A comprehensive study on backup bandwidth reprovisioning after network-state updates in survivable telecom mesh networks,” </a:t>
            </a:r>
            <a:r>
              <a:rPr b="0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EEE/ACM Trans.,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ol. 16, no. 6, pp. 1366–1377, Dec. 2008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. Song, J. Zhang, and B. Mukherjee, “Dynamic provisioning with availability guarantee for differentiated services in survivable mesh networks,” </a:t>
            </a:r>
            <a:r>
              <a:rPr b="0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EEE J. Sel. Areas Common., vol. 25, </a:t>
            </a:r>
            <a:r>
              <a:rPr b="0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o. 3, pp. 35–43, Apr. 2007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. Rai, O. Deshpande, C. Ou, C. Martel, and B. Mukherjee, “Reliable multipath provisioning for high-capacity backbone mesh networks,” </a:t>
            </a:r>
            <a:r>
              <a:rPr b="0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EEE/ACM Trans. Netw., vol. 15, no. 4, pp.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803–812, Aug. 2007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228600" y="304920"/>
            <a:ext cx="8686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. Zhou, M. Held, and U. Sennhauser, “Connection availability analysis of shared backup path-protected mesh networks,” Light wave Technol., vol. 25, no. 5, pp. 1111–1119, May 2007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J.Zhang, K. Zhu, H. Zang, N. S. Matloff, and B. Mukherjee,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“Availability-aware provisioning strategies for differentiated protection services in wavelength-convertible WDM mesh networks,” </a:t>
            </a:r>
            <a:r>
              <a:rPr b="0" lang="nl-NL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EEE/ACM Trans. Netw., vol. 15, no. 5, pp. 1177–1190,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Oct. 2007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5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. Das, C. Martel, B. Mukherjee, and S. Rai, “A better approach to reliable multi-path provisioning,” in IEEE Global </a:t>
            </a:r>
            <a:r>
              <a:rPr b="0" lang="fr-F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élécommunications Conf., 2007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AGENDA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52280" y="12193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ntroduc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iterature surve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roblem statemen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roposed work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ol used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Referenc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-228960"/>
            <a:ext cx="793908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Wavelength division multiplexin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181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10181c"/>
                </a:solidFill>
                <a:latin typeface="Verdana"/>
              </a:rPr>
              <a:t>-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multiple optical carrier signals of unique wavelengths on a single fiber cabl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dvantages of WD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-15408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igh bandwidth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-15408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xtremely low error rat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-15408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ow signal attenuation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-15408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More secur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54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3733920" y="2286000"/>
            <a:ext cx="5181480" cy="4191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3" name="Object 6"/>
              <p:cNvSpPr txBox="1"/>
              <p:nvPr/>
            </p:nvSpPr>
            <p:spPr>
              <a:xfrm>
                <a:off x="4451400" y="3321000"/>
                <a:ext cx="2412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304920" y="380880"/>
            <a:ext cx="8458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10181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10181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0" y="-3049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Typical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connection request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requires two parameter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Protection from network failure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-Efficient utilization of bandwidth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Survivabilit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18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bility to remain alive or continue to exist the network</a:t>
            </a:r>
            <a:r>
              <a:rPr b="0" lang="en-US" sz="2400" spc="-1" strike="noStrike">
                <a:solidFill>
                  <a:srgbClr val="10181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1828800" y="2514600"/>
            <a:ext cx="42480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6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0" y="457200"/>
            <a:ext cx="3619440" cy="1676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3886200" y="228600"/>
            <a:ext cx="4038480" cy="1600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3"/>
          <a:stretch/>
        </p:blipFill>
        <p:spPr>
          <a:xfrm>
            <a:off x="0" y="2438280"/>
            <a:ext cx="4343400" cy="3519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4"/>
          <a:stretch/>
        </p:blipFill>
        <p:spPr>
          <a:xfrm>
            <a:off x="4267080" y="1676520"/>
            <a:ext cx="48769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irtual concatenation(VCAT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534960" indent="-2055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reaks the bandwidth into individual payload  at the source end and  concatenated at destination nod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534960" indent="-2055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nables  reliable multipath  techniqu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534960" indent="-205560" algn="just">
              <a:lnSpc>
                <a:spcPct val="15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534960" indent="-205560" algn="just">
              <a:lnSpc>
                <a:spcPct val="15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46960" indent="-24696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nk Capacity Adjustment scheme (LCAS 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534960" indent="-2055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 protocol for dynamic adding/removing of VCAT member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534960" indent="-2055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rovides the capability of temporarily removing member links that  have experienced a failur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5229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1066680"/>
            <a:ext cx="868680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LITERATURE SURVEY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38088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ynamic provision with availability guarantee  for differentiated services in mesh network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ackup reprovisioning to remedy the effect of multiple link failures in WDM mesh network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urvivable virtual concatenation for data over SONET/SDH in optical transport network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onnection availability analysis of shared backup path-protected mesh network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Optimal path selection for minimizing the differential delay in Ethernet-over-SONE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lnSpc>
                <a:spcPct val="15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4575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PROBLEM FORMULATION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To provide an efficient connection availability in multipath provisioning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4T08:52:07Z</dcterms:created>
  <dc:creator>Electronics Projects</dc:creator>
  <dc:description>Electronics Projects</dc:description>
  <dc:language>en-US</dc:language>
  <cp:lastModifiedBy>Brigade</cp:lastModifiedBy>
  <dcterms:modified xsi:type="dcterms:W3CDTF">2011-08-26T11:08:43Z</dcterms:modified>
  <cp:revision>0</cp:revision>
  <dc:subject>Electronics Projects</dc:subject>
  <dc:title>ECE IEEE Projects</dc:title>
</cp:coreProperties>
</file>